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F301-D403-4E1E-AA14-D9128412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F14D-25D1-46D2-A431-22FC5BD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BB34-A8C3-455C-9B9B-E65F7596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D39F-F0D5-4E87-80AB-CEFBE148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516-E1ED-49D9-AF37-1C8EB9E3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B749-912C-4FFE-BEE5-CC13207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B22C-E6B1-400F-A07B-7F7A2AC4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151-9B42-4A04-A3FE-F4363625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BE0D-546E-4D76-B333-5E245EC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ABB4-C5D7-4079-9438-306BB63C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8725-67B7-449C-97D1-25CAC60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D78E-6DB8-4950-BF23-7B3E43A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538B-24E4-4408-AF88-1399D632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1144-5FBA-4079-9FB7-BD5BAED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68DA-0707-4EA8-A221-312AAF89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5F1A-FA41-4481-AEC7-F2A26836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384-81A3-4B08-80FB-F71FFAD4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EDE7-910F-413E-9EB6-4DCDE000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B380-2D76-4416-9D88-FC8CE337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90DF-CCDC-48C5-BFE9-7CE89BC6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D7E0-D6B7-4362-AC32-70F70D24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9EE6-3BB5-4207-B422-3FE8411C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958F-798C-4E57-9512-0A68479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05D5-0003-4A02-89E2-4DBF7B34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ED74-A708-484C-9710-9D6C981024F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0BC9-7158-4086-8775-F0FDD62C951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nderstanding Computers &amp; Computer Literac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omputer Concepts BASICS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Lesson 1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assifying Comput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mputers are either Special Purpose or General Purpose computer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pecial Purpose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sed to control something else. Tiny chips are embedded in devices such as: dishwashers, airport radar system, bathroom sca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neral Purpos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divided into 5 categories based upon size, function, cost, performan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General Purpose Comput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ktop 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designed so all components fit on/under desk.  PC &amp; Apple (Mac) are most popula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bile 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ersonal computers such as notebooks (laptops). Designed to be carried from one place to another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bile devices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fit into the palm of your hand (PDA, hand-helds, smart-phones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d-range serv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(minicomputer) used by small companies that can support hundreds of us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frame 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large &amp; expensive computer that can support hundreds/thousands of us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percomputer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fastest type of computer. Used by government &amp; large corporations to process enormous amounts of dat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puter Softwa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2 types of software (programs)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pplication softwar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a set of programs that perform tasks for us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ord processing, spreadsheets, databas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ystem softwar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a set of programs that controls the operations of the comput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indows or Mac system softwar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raphical User Interface (GUI):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we see when we start up Windows. Includes icon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con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small image that represents file, command, or other func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munications &amp; Network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lectronic Communication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technology that allows computers to communicate with each other &amp; other devic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ransmission of text, numbers, voice, vide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969: 1</a:t>
            </a:r>
            <a:r>
              <a:rPr b="0" lang="en-US" sz="32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message sent via telephone from comput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Arial"/>
              </a:rPr>
              <a:t>Electronic communication require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Sender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computer that is sending mess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Receiver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computer receiving mess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hannel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media that carries/transports message (phone wire, coaxial cable, microwave signal, fiber-optic cable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rotocol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the rules that govern the transfer of dat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etwork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Network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 a group of two or more computer systems linked together via communication devic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llows computers to “share” printers, data, information, &amp; progra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Nodes (Client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computers on a net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Servers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computers that allocate resources on a net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anet &amp; Extrane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any companies have intranets in their organization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ranet: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network put together for just certain people (company, school, etc.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eliable network, Secure network, no outsiders can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xtranet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systems that allow outside organizations to access company’s internal inform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he Interne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rnet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world’s largest network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riginally a network that included only the government &amp; universiti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990: Original network (called ARPANET) was disbanded &amp; the Internet was bor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echnology &amp; Everyday Lif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mputers have affected the way we live our live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y have become a necessary tool in almost every activity &amp; type of business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does it affect you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chool, security, gaming, research, home appliances, TV, etc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oducing Comput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mputers are most important invention of this past century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ere do we use computer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chool &amp; learn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ideo ga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V, movies (instant replays &amp; special effects!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, E-mail, Video-conferencing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puters in our Futur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future is hard to predict, but we can assume that computers will be more powerful and less expensive. 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lmost every type of job will somehow involve a comput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nectivity will continue to evolv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Arial"/>
              </a:rPr>
              <a:t>What is the computer of the future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istory of the Computer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Computers: invented in 1940s &amp; 1950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reat big machines (as big as small buildings and cost millions of $$$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ames: UNIVAC, ENIA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ower:  less power than your typical pocket calculato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p through early 1970s, only government &amp; corporations used these comput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433680" cy="2600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340056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76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971: 1</a:t>
            </a:r>
            <a:r>
              <a:rPr b="0" lang="en-US" sz="28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Microprocesso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ve Job &amp; Steve Wozniak applied this technology to personal comput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1976: 1</a:t>
            </a:r>
            <a:r>
              <a:rPr b="0" lang="en-US" sz="2400" spc="-1" strike="noStrike" baseline="30000">
                <a:solidFill>
                  <a:srgbClr val="0033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pple computer (developed by both Steve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1981: Bill Gates introduced IBM P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276720" cy="3147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15000" y="3657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What are a Computer and Computer System?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mputer: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an electronic device th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eceives data (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cess dat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ores dat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oduces a result (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omputer System: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cludes Hardware, Software, Data, &amp; Peop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ardware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the actual machine, wires, transistors, circuits, monitors, &amp; printe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oftware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structions or programs used for controlling the comput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Data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text, numbers, sound, images, vide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formation: Process of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ata going into computer (input), is processed, stored data, and output produced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Users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People who use computers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00"/>
                </a:solidFill>
                <a:latin typeface="Arial"/>
              </a:rPr>
              <a:t>Examples of a Computer System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put (receives data)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Customer name is entered into computer, scans ISBN, types info, uses scann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rocess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Computer uses stored instructions to process data into inform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Outputs Information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a monitor or printer displays inform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tores data: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data &amp; information are stored on a disk drive or other storage devi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4584240"/>
            <a:ext cx="8654760" cy="2337840"/>
            <a:chOff x="228600" y="4584240"/>
            <a:chExt cx="8654760" cy="2337840"/>
          </a:xfrm>
        </p:grpSpPr>
        <p:sp>
          <p:nvSpPr>
            <p:cNvPr id="125" name=""/>
            <p:cNvSpPr/>
            <p:nvPr/>
          </p:nvSpPr>
          <p:spPr>
            <a:xfrm rot="964200">
              <a:off x="6324480" y="4876920"/>
              <a:ext cx="2362320" cy="1752480"/>
            </a:xfrm>
            <a:prstGeom prst="foldedCorner">
              <a:avLst>
                <a:gd name="adj" fmla="val 40550"/>
              </a:avLst>
            </a:prstGeom>
            <a:solidFill>
              <a:srgbClr val="cccc00">
                <a:alpha val="41000"/>
              </a:srgbClr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743200" y="510552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4114800" y="5105520"/>
              <a:ext cx="1825560" cy="13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28600" y="5181480"/>
              <a:ext cx="2362320" cy="119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John Smith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2358 Smithville Rd.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Movie 1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Arial"/>
                </a:rPr>
                <a:t>Movie 2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59400">
              <a:off x="6324840" y="5105520"/>
              <a:ext cx="2362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John Smith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2358 Smithville Rd.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Smithville, OH 45454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Movie 1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00"/>
                  </a:solidFill>
                  <a:latin typeface="Arial"/>
                </a:rPr>
                <a:t>Movie 2</a:t>
              </a: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computer is not overly complicated. It only performs 2 operation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rithmetic:  add, subtract, multiply, divide and comparison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ogical: And, Or, No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4495680"/>
            <a:ext cx="4495680" cy="2210040"/>
          </a:xfrm>
          <a:prstGeom prst="horizontalScroll">
            <a:avLst>
              <a:gd name="adj" fmla="val 14328"/>
            </a:avLst>
          </a:prstGeom>
          <a:solidFill>
            <a:srgbClr val="cccc00">
              <a:alpha val="46000"/>
            </a:srgbClr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d You Know?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A computer won 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orld Chess Championship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playing against a human being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re Computers Intelligent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.  They can only do what we ask them to do.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re there any advantages to using a computer? –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Yes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ed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can perform billions of calculations per seco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liability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electronic components are depend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uracy: 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F data is entered correctly, computers generate error-free resul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can store/retrieve volumes of data/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unications: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can communicate &amp; share resources with other compute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01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4:15:49Z</dcterms:created>
  <dc:creator>LDSD</dc:creator>
  <dc:description/>
  <dc:language>en-US</dc:language>
  <cp:lastModifiedBy>LDSD</cp:lastModifiedBy>
  <dcterms:modified xsi:type="dcterms:W3CDTF">2010-02-23T06:13:39Z</dcterms:modified>
  <cp:revision>19</cp:revision>
  <dc:subject/>
  <dc:title>Slide 1</dc:title>
</cp:coreProperties>
</file>